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26C-2DC5-4101-B016-F4E8F607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28B-ADC7-48A1-B796-1E8DA8CD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A21-F2F5-4FE1-AB0C-DACAD9E9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419-81BA-41E0-A3E6-EAE3583D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B25-7851-43D8-834B-4AF85669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F97-1801-42A7-96DB-E2FAC1AC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E98-BCDB-4D6B-9882-63309774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86A-7DE4-4D67-BD7F-5F926385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7A6-F283-4291-95AE-52B69969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615-D985-41F9-B8CE-2F4E94FD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42E-16B8-4954-BAF8-4ADE5D5E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742-AE6F-477B-90C8-BAF88B7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A308-0593-4741-AC86-7D58C70B5F1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68 Ráč naše deti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naše deti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ó, Pane, v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rániť ich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nimi bd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ou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v mnohom deti nám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zor si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láskou si žehnal i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ruky br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ou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cestou spas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kráča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o, že rád ich máš pamät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ou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vzácne dedičstvo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cirkev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Duch tvoj ochráni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achov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ou í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39:15Z</dcterms:modified>
  <cp:revision>71</cp:revision>
  <dc:subject/>
  <dc:title>Je veľký náš Pán, on slávy je Kráľ Nech do všetkých strán  spev vrúcnych znie chvál.</dc:title>
</cp:coreProperties>
</file>